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B68-716D-4AD5-9524-E6411B09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F1E7-72E0-4523-8086-E8EAC890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024-7AA2-4E6F-B1D0-9167DEC6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30C-71C1-46F1-BF3E-3A483449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EDC2-F956-42FC-84A7-EAE64B70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DBBA-8A23-407C-8BA0-C6ABF35E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FE50-3134-4639-92AB-B85B2727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891D-53D0-4528-BE9D-46FF455D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4493-8686-45E6-BE05-2B9DD8C0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3C70-D36E-4F71-BC15-5A6B7863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9C56-A44E-4372-8543-A88EF327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3D2-ED0D-4F44-AA77-1B54ED06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D4E9-66FC-4103-832B-43F37973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42E8-0CF0-43A4-B556-D9F12835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A819-9822-40C1-8187-974FD3B8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6371-81C3-4807-A2FC-BB0AA2AD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B9D8-F143-447D-9D28-D491741F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056-CECC-4796-A310-F4AB503A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40B-10E0-4674-AFB9-234C3012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248-194B-40FC-AEEC-E61F007D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8DD-6873-4FF9-A38D-A0AA527A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765-FA31-4620-A0ED-EB955A56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0F9-55D0-4059-A2EF-A0542A4A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690-FCDC-42C2-BDFE-B329E9C4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8D8A-5EDD-4160-A7B9-5CDF361C25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BA7E-B15B-4E1D-B067-D94D9D6CDF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5080" y="1828800"/>
            <a:ext cx="625788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241020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tr-TR" sz="3200" spc="-1" strike="noStrike">
                <a:solidFill>
                  <a:srgbClr val="000000"/>
                </a:solidFill>
                <a:latin typeface="Comic Sans MS"/>
              </a:rPr>
              <a:t>Okumak adlandırmaktı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000000"/>
                </a:solidFill>
                <a:latin typeface="Comic Sans MS"/>
              </a:rPr>
              <a:t>dinlemek ise yalnızca bir dili algılamak değil, </a:t>
            </a:r>
            <a:r>
              <a:rPr b="1" i="1" lang="tr-TR" sz="3200" spc="-1" strike="noStrike">
                <a:solidFill>
                  <a:srgbClr val="000000"/>
                </a:solidFill>
                <a:latin typeface="Arial"/>
              </a:rPr>
              <a:t>aynı zamanda onu kurmaktı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000000"/>
                </a:solidFill>
                <a:latin typeface="Arial"/>
              </a:rPr>
              <a:t>Barthes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17160" y="2927880"/>
            <a:ext cx="845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kumayı öğrenme sanatların en gücüdü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Goe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93160" y="1212840"/>
            <a:ext cx="56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odoni MT"/>
              </a:rPr>
              <a:t>OKUMANIN AMAÇL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76360" y="1484280"/>
            <a:ext cx="429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doni MT"/>
              </a:rPr>
              <a:t>Saplantılardan arınmış bir düşünme alışkanlığının kazandırılmas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755800" y="3246480"/>
            <a:ext cx="210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324000" y="134136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doni M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doni MT"/>
              </a:rPr>
              <a:t>Eleştirel bakışın uyandırılmas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42920" y="981000"/>
            <a:ext cx="5254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doni MT"/>
              </a:rPr>
              <a:t>Çok yönlü düşünmenin öğretilmesi. Başka deyişle bir sorunun tek bir bakış açısından değil de çeşitli açılardan ele alınıp değerlendirilmes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76360" y="30805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585440" cy="7532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4160" y="1700280"/>
            <a:ext cx="5157720" cy="1923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doni MT"/>
              </a:rPr>
              <a:t>Düş gücünün geliştirilmesi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OKUMAMA NEDENLERİ :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47640" y="213372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akit bulama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itapların pahalılığ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kunacak bir şey bulamam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k de geçerliliği olmayan, deyim                 yerindeyse sudan bahaneler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2781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KUMAMAYA DEĞİL,OKUMAYA BAHANELER ÜRETELİ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Uygar toplumlarda bireyin kendi uğraş alanında ilerlemesi,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önemli görevlere, yetkilere yükselmesi,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gelişmiş bir okuma yetisi aracılığıyla kazandığı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bilgi birikiminin sonucudur.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Okumak insanı olgunlaştırır, konuşmak ustalaştırır,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yazmak ise daha somut bir bilgi sağlar.”                                                                                                                                                 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   Bac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tr-TR" sz="3600" spc="-1" strike="noStrike">
                <a:solidFill>
                  <a:srgbClr val="000000"/>
                </a:solidFill>
                <a:latin typeface="Comic Sans MS"/>
              </a:rPr>
              <a:t>İnsanlığı yönetebilecek olanlar, </a:t>
            </a:r>
            <a:br>
              <a:rPr sz="3600"/>
            </a:br>
            <a:r>
              <a:rPr b="1" i="1" lang="tr-TR" sz="3600" spc="-1" strike="noStrike">
                <a:solidFill>
                  <a:srgbClr val="000000"/>
                </a:solidFill>
                <a:latin typeface="Comic Sans MS"/>
              </a:rPr>
              <a:t>okuma yazma gücüne sahip olanlardır.”</a:t>
            </a:r>
            <a:br>
              <a:rPr sz="3600"/>
            </a:br>
            <a:r>
              <a:rPr b="1" i="1" lang="tr-TR" sz="3600" spc="-1" strike="noStrike">
                <a:solidFill>
                  <a:srgbClr val="000000"/>
                </a:solidFill>
                <a:latin typeface="Comic Sans MS"/>
              </a:rPr>
              <a:t>Voltai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19280" y="1701360"/>
            <a:ext cx="619272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tr-TR" sz="3600" spc="-1" strike="noStrike">
                <a:solidFill>
                  <a:srgbClr val="000000"/>
                </a:solidFill>
                <a:latin typeface="Comic Sans MS"/>
              </a:rPr>
              <a:t>Okuma tutkuların en soylusud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600" spc="-1" strike="noStrike">
                <a:solidFill>
                  <a:srgbClr val="000000"/>
                </a:solidFill>
                <a:latin typeface="Comic Sans MS"/>
              </a:rPr>
              <a:t>Ekmek nasıl bedeni beslerse o da öylece ruhu besler 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1" i="1" lang="tr-TR" sz="3600" spc="-1" strike="noStrike">
                <a:solidFill>
                  <a:srgbClr val="000000"/>
                </a:solidFill>
                <a:latin typeface="Comic Sans MS"/>
              </a:rPr>
              <a:t>Alba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0:23:59Z</dcterms:created>
  <dc:creator>kayatepe</dc:creator>
  <dc:description/>
  <dc:language>en-US</dc:language>
  <cp:lastModifiedBy>kayatepe</cp:lastModifiedBy>
  <dcterms:modified xsi:type="dcterms:W3CDTF">2011-05-03T06:18:48Z</dcterms:modified>
  <cp:revision>6</cp:revision>
  <dc:subject/>
  <dc:title>OKUMAMA NEDENLERİ :</dc:title>
</cp:coreProperties>
</file>